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7CD-C609-4AE3-AA21-B5990986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84B-4C45-46A6-8663-7E1C432A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66855-FF09-4FED-908E-14D928D9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8F249-D58D-4B6B-888E-84000A17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3A733-D8BE-46F0-856C-DFFF4D34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6D925-7AAB-4A6E-8233-4CD0445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36FF4-37E8-4270-9547-2BFF0817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97DDA-B8C2-4E7E-AD8B-5A9007CC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EBB2A-57CF-41E3-B6E2-F0E4097A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1526E-A99D-466A-893F-D7431733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381C0-2F1A-4358-A3B3-01F5B785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2DAD9-D5D9-411A-B9B8-52C66292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7BE-B7E8-4DA3-9B15-CB0361D8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EF5A9-F42F-4DFE-B3B4-8EBC0BB7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3D230-F256-41F7-AE92-D9F6EB71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A0997-1A71-4B38-B15F-6E77C41D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7ECC3-B7F1-48F7-BEC2-277C3EF5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D8511-E91A-4372-9F88-3FF6FBB8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0CFE1-BD4B-443A-88AB-E3D3ADA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31399-1465-4290-99BC-F0DE2029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A4BD6-DE74-44B8-AAA9-21F41C93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8F136-269B-44B0-8E34-90EB72F4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2C690-EAC2-4ABA-B419-4BF1FF3F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C37-DCF6-47DA-B788-2C3A99E5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B8F48-71F2-4FAE-BA7F-11551C96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4509C-C86B-4924-9C92-B7BA9AE1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FD868-0DE6-475D-9A72-110ECBD4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B13CA-54B0-4F38-BA66-0E6CCA8B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42E03-3F81-494A-A852-8ED82496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2D425-8800-4B7E-8722-3752F067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F92F9-6391-4074-AAC3-F48965A6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DE502-C1B4-4BDD-941F-6DC12B1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C273C-35E7-43B0-A3A6-802E9345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162F1-74D8-4C2F-8C5D-0634DBB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68EF-C066-4611-9842-42A6C007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BC90C-89AA-4B87-857B-C79746DC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7A37F-974D-4EC9-92D8-75E43F3B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8513D-E1D1-4B25-A6A8-3791BC18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0674B-50B1-4549-9C93-A08B59FE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FCE76-A11B-4F52-A7E0-80A84B22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7A40F-73EA-4FA7-BD93-8E90E0A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19DD1-3BAE-4504-9325-23827543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F10D9-6873-4BD0-BA56-8B247507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5FF68-6ED9-4BA2-A26C-F5429F43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0B142-B12C-45BA-A7F9-FD16B13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EFEF-6775-470C-A3D3-677A0B1F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A17B1-909A-4CA4-B1DC-B4DC6C6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E437A-B084-4D47-AAFD-C5CC84F8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0BDE7-5E4E-4AE6-A489-877582CA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C9DEC-2927-495F-AAD3-E012D309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AE48E-479B-47FF-8071-CB433B92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A0803-1A7C-420D-A136-9B452A32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BCD8B-6F24-405E-B336-D3199AE3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64296-04D4-4E7A-B6D4-598A90B9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FB18A-665A-4666-AD13-9F896B5B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80F1B-C52D-4AC8-8F9F-D1415AD3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36F0-185F-464E-A9B2-95AB91A7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2854F-72E7-44C3-A907-F70011FA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03697-E1F8-4A52-BEA7-5F31EC6D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A222B-60FA-4F25-8E72-8B3BBA3D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D6B30-4A48-452B-8C5E-13455CC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CC93A-D953-410F-B7A8-6CFD01BF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DC3DB-EEA6-4176-86FB-DAF709AB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99318-F011-48AE-A952-E0F16DE8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70A4E-E95D-4411-98BD-1BE98B7A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A96CE2-47F1-4733-862A-99AFE366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54DC6-25F8-4FAD-9F23-08A99A8D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CB94-263C-49CF-B7D5-B00E18F1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FD56C-3030-46CC-A485-1A067D5F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6865B-0653-430A-95D7-7AF21A42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21104-D459-4881-999A-B53CE2F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BF116-1333-45A4-B3BF-8C2A926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3C5A8-C1B7-4E21-82CE-AB7B28F1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BE692-D07D-4237-8634-E917B23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3C24A-E129-4E8F-BEDF-BA800C53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4D871-D97C-499F-85F2-B619B4F8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19F92-ABA9-4E4F-A18F-C2E5F144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28B67-FEAC-4A27-93DF-BB1055EC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5FB7-7C4C-42DB-BBA6-6CB983B1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88413-F8B3-4171-A032-D407191B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D1562-4F4C-45F9-A41A-8864486C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C56B7-494F-43CF-8BC6-B14356EA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CDE94-95DA-4565-B2B0-0235A311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9875C-8717-4ED0-B060-96B0EBE2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3BC86-E905-473D-9B86-EA45030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35550-F3DF-44C9-8803-F2CD0697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8657C-8720-4973-AFCF-09A9B256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39F6D-B3E6-4D45-B973-B8B5C053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635AE-C633-4BF5-8CE3-6180D645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C163-FE31-4A7D-A0E9-B68254AD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02F0C-04EB-4AAC-B472-ABFA69CA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8F8E0-A9EE-45E6-A177-6F4CD07A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62C62-69B2-4F2C-BE47-F70FD63A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045A4-E6E9-4D6D-A4BE-6510DDB1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77E90-1984-4B06-AA93-592B9B20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6784A-4468-4EA0-A31A-9C169060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97E5D-F7AE-47D3-A44C-7F770EBC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B0AB4-0CB2-4F6B-8BB7-D32B7B5C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03C47-0655-4DF2-B976-B5D6AE0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B75FE-A868-4DD6-8774-8A48E6B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549F-2F3C-49DB-A43B-795DCA68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2DF6E-0B97-46EE-BA1D-63E43E8E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DB119-F2F0-4102-BFD3-8945CD43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2C41C0-9FD7-4ACC-9ED6-789E1ECC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BFAB8-8259-47FE-80CE-5FE43B6C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96566C-8568-4F0F-9EAD-28404705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44A42-CE94-4F96-BFE4-F06CC734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17974-4FF3-4FAE-82B1-634FA264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1AC4A-FBE9-45AA-8897-FCC7C197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F72F4-4EDC-4FFD-8B2D-D2CD9549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6D3D0-D285-4645-B4D1-35B883DC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ABF-2BCE-41D8-88B5-EEF61B53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FE54-06CE-4E20-8E7E-C35CE29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429A0-E2F2-4E58-B692-24431727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30195-B693-4B84-B5FA-A153F30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A4666-1BB7-40A3-857E-25F79D15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77D28C-7F7B-4E20-969D-A3289765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2C88A9-4A79-4D61-AB82-D1052271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CE429-6F7C-456D-A4DE-4664F285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4BC5D-B0A0-4B11-8223-D2717877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3ED44-658E-45A8-B8ED-6F3F0D92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15E57E-5493-42E7-9475-971CB033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7E3B58-AA58-41CA-A988-20B258D6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D61B-9A90-45D7-AEF7-11AC035F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537DB-C1DF-41D4-8FE2-4A8CF82A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E15330-91EE-422A-8A71-C8BDC38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825D8-AE74-4EF6-BFAE-6EB88710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989F1-D7AA-4F52-AAFE-F8D1835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E34918-3282-4698-9056-F7D045EB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1464F-B6FE-4950-89AC-435E2303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3BFAAE-D1F7-4F25-8FB8-EBD11C26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D2089-8E78-48AB-BB4F-A756C49F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5F93B-2B09-4F89-936D-505E15E2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90F675-A085-459B-9E48-EDB67F8A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BACB-6C93-45AF-BC39-26293899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9AC0B-2D38-4789-BF05-41801791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B83A9-51EA-4776-9A72-1535164A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60B53-A2B9-4CE4-898E-9FFFD85B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FA3B1-CB80-48D7-82FC-218AC12D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30CC5-9B4D-45B5-9705-89CFCCF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ADE8C1-E94A-4648-86F1-ED1D480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B165B-CD7E-4B78-B5B6-6DAAA7F5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22A55-21B4-4730-BB2D-214150A5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7BB7A-EC69-48C7-BE00-D1D64811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E49BC-A397-497A-97F2-82522EA3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8876-518D-45CE-A375-142D2871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04719-4756-4DFF-BB68-37BFC829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AD08AD-3016-431B-A63C-A4C7B9A9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74E15-CD87-45B8-9DEE-AB2C25D5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27C0C0-7DC9-4DDC-9CDA-FB14F2CB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91E12-65E0-47DC-A99F-2B50A8C7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7992A-973E-46F1-BAE2-0358A64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5B903-1DFF-4E3A-8260-6683EF88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FE239-DAD5-4112-8F83-7326D3B2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CAA9A-5E5F-4D66-9620-6182AC37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9FC37-19F4-4798-8B71-B81F022D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B79B-73F1-4890-9D7D-6E3219E8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8E1DE-2D50-440B-8D24-B53D9D43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E92B5E-D5A1-4D5F-8862-427C5414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5113E1-8BDB-4028-96DF-A0AA9234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B6D8E7-6A0D-493B-BD87-14FB0C3D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1C6F25-5650-40C4-A00B-DA68FF1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E5F1A-A26C-4BBE-88A0-061EF96F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A5FE95-E535-467F-B73F-A6E75CB5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52151-77CE-484A-BC49-4F02154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F0D19-4B81-4188-B3D9-1D822FB4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A1B4B-8D84-4655-996A-95EA086D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6EDE-6B4B-4187-9934-74726234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AFD3B-58CB-4CE0-A0DA-78F1E748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EE8A06-DCDD-4201-9A78-B4AAD133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BA69A-CF5D-49EB-8C57-8BB371B6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0DFDA-737F-403E-BE83-48F18EC9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6734-FB2F-4BB7-A170-37635BC2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4985-879A-41AA-BE3A-5F313E92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69AC-B3F1-422E-8EA1-141ADA90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AF9-3F33-47D6-A948-B8ABAA52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D4D2-AA76-486A-94FD-6941A276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5C8AD-7804-4A57-9E37-271EB72C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F2AB-4619-4C25-B36E-4A7AE730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9C22-05C7-4C01-B962-B9C0A18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C6D6-3D58-49DB-BAA4-65DDDB7D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8797-15FF-4C1C-A5B1-CA5C7575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F019-8453-482C-A11A-BC6659C1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9288A-338A-438A-BEE6-61E1D864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A139-36DC-4EC5-95B9-42C90306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2531-5E23-4759-8FC7-3448ECBA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3E1-D473-4CDD-8225-8C2B2C07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95B9-7AF6-4C3E-92ED-C9F5BC86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D8CA3-1905-4AF2-8914-DD8D13B3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5379-15C1-44F9-A875-C1352598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3EF64-80C0-445E-B39A-5D6D1C6F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2E91-8591-4016-BD38-784E93C3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1AB6-5B46-410C-B100-A7B11A03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69C9-AA00-4FFD-96CB-F6E21A65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858C-76C6-471B-B826-0DD5FFD1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2A63-1117-4DC9-9B83-4888B1B8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5877-7A93-4BCA-8E1C-8ADFD318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2E3-804F-467B-B6A1-6108A070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D677-91F7-4466-BDAB-A71FB40F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54F96-F6F6-4F0F-AAAA-6CC0FE5C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5628E-8BE2-415E-BB8D-62E3229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E893-F1B0-41DB-B692-64FF6667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0F3C-52FD-4A06-B400-5098420E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EB4BB-DFD6-4690-97A8-B7239CC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719E7-8EDF-4205-BA1B-F80319F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9F03-68AC-46BD-9406-A82B496C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F2D78-FE2F-4AD3-92D2-41B98699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39DA2-C3E7-48E3-83C2-95C68287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CBC-21F6-44DD-8620-43778F8D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E4324-B5D8-458B-8DC4-AC53FBF1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8BB0-AB10-4A9C-99BC-665C98B5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0428-533B-4978-A38C-13D6C6B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4AA29-818A-457A-8C3A-122271A9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5D014-50A3-461C-B178-AFEA0CBC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A70F8-9B4E-40A0-8395-F9CF481C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5B424-4269-4C46-82CD-B7627BF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75C75-1552-49AB-BE1D-076AE5EB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1898-98A6-4997-92D7-A72BAF6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2F8B4-73DD-49A9-9AE5-B8AC8B2A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9F4-65CF-4893-8F5D-7EF77937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E80C8-A54F-4C42-8BFC-D9166056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93B83-58E8-4A92-8C4E-A932124A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31F48-6815-48B3-92C3-47C9F118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A4C71-7915-4E1F-AEA1-011E0A40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6011D-6678-4C06-8B1E-9A8CCE92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7FE1F-CF39-472A-81A2-154A45F6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2319A-DE9A-4C8D-AF54-8CDB0C5D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50782-C3F8-4471-BBBA-0B0A9C32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2AAE1-F178-4B0D-B43C-A185A353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5E2C-718D-4C33-B5DD-D2564DBC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5A6-DF72-4218-A2AC-53BA576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F130-4547-488B-B8B4-5378649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13DE9-E47A-4153-9581-27090342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712E-147B-4876-8D3F-318FD953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276C-AFC4-4916-AE43-6714DD13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E972F-EFD6-455D-8AA6-229B809A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D2AEE-B106-4395-9BBD-00DE196A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575CB-CF49-4BF9-9AF9-A3C07EE2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12F47-4A97-40B2-B643-AFF485D9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46F01-9EC8-4E69-8AFE-0CF172AD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7704A-3DAF-4BEF-AD35-65D8A83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271-F487-40FC-99EE-5235BF6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55449-6B7B-49F8-9494-95FF5506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89993-957A-4879-8245-8EEF4C8A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52F2-1EAE-4266-8F50-58EA957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7EFAC-7DC2-4898-A49E-39B03AC0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59DBF-A638-4FF9-9FD3-E46D4C0A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1FCD7-87BA-402F-A3ED-585BAA19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BFD3E-1DE0-4EFA-8D96-04987616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8EACB-CA35-47EE-8DB1-B5400657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CBBFE-20BC-44F6-8B49-B04847E2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2B475-1C54-454E-AD32-27FE6B7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E39D-80DB-4D55-8A46-12B46B6CD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683A-49B6-4BCE-9E62-6DEDE1EEE2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FFF-9788-4759-938A-4A4C6EF6B7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BB47-B0C3-42C9-96F9-D7CD9D09A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A5E8-0322-46B1-8636-0FDA45944B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1E11-1B86-49EB-A8AD-4BE4876E4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7F5-E741-401E-BEDB-38076D3993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D22E-02F8-4DD2-8BBE-A9DCB49164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CA3D-85EF-461B-A195-5D68322B7C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24DE-DA39-4667-851C-7222C011BE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1012-7861-4409-9989-2110A7579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EB84-06F0-4627-AC77-90039A68F7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DECE-4601-4BA3-9DC6-413BBEE17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D8B2-1028-48DD-B925-647E0ACA23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2AD8-3A4B-4F86-BDD0-BC83B9BE95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78DC-7118-44C1-A9A7-0E33013B9C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6EF6-F3CF-49A3-9ECF-4D46653539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13A-D4D3-469E-A4F2-CA57175EB2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1A38-ED2F-4BF8-896F-82F1D2C0B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739E-EF16-4D89-B66A-C96E3D6579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95CB-367E-47D6-90AB-B44E204FD1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49BA-E64B-452A-9072-E0A31D3623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0ED3-44D4-4992-A5C0-37C487BD81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54C2-A88F-4115-978B-1FE266073A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D16A-5D36-4A7A-BE8A-EDC34B11D3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3006-9819-4542-B2B8-25747927C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333B-4CDA-40F3-9E9C-7F1FEFA84E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D3A0-F220-4ED3-A876-4E40ECA77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91B2-9AEA-4E02-A1E4-05FB59498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8F3F-26D7-4B25-8A46-BFA832620F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ACED-F701-454C-9631-C53EBBA103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434E-6620-4474-AE5B-9B03A2BD2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9387-8AF0-43EC-9B2B-CE8FDBB0D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BD84-F3D0-40C1-AC5E-7569CFD703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8EE6-7C78-420E-B3A1-EFD14805CD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6F7B-7E98-4D67-B91A-F5664370A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15B7-E6A3-4AFC-946F-B7572E6A2F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9E27-C7EC-4B53-B68D-30EFA28CCD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5B51-08AD-4699-B611-635364A22C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C94E-00BC-4392-B800-EC69EEDF82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967040" y="3029040"/>
            <a:ext cx="52099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438120" y="762120"/>
            <a:ext cx="8267760" cy="533376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4143240" y="785880"/>
            <a:ext cx="1214640" cy="288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4025880" y="2232000"/>
            <a:ext cx="121428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1143000" y="3214800"/>
            <a:ext cx="1428840" cy="288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3403440" y="3700440"/>
            <a:ext cx="100044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6929280" y="4643280"/>
            <a:ext cx="142884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90680" y="995400"/>
            <a:ext cx="81626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80960" y="1271520"/>
            <a:ext cx="81820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0040" y="1442880"/>
            <a:ext cx="8143920" cy="397224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857160" y="150012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857160" y="200016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928800" y="3000240"/>
            <a:ext cx="5713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928800" y="342900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857160" y="442908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628560" y="981000"/>
            <a:ext cx="7886880" cy="489600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071720" y="107172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1000080" y="200016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1143000" y="307188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1071720" y="392904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000080" y="4929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23720" y="1224000"/>
            <a:ext cx="829656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495360" y="814320"/>
            <a:ext cx="8153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80960" y="747720"/>
            <a:ext cx="8182080" cy="536256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1143000" y="1285920"/>
            <a:ext cx="2143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1143000" y="2214720"/>
            <a:ext cx="578628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941400" y="3146400"/>
            <a:ext cx="5786280" cy="453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901800" y="4135320"/>
            <a:ext cx="578628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"/>
          <p:cNvSpPr/>
          <p:nvPr/>
        </p:nvSpPr>
        <p:spPr>
          <a:xfrm>
            <a:off x="785880" y="5572080"/>
            <a:ext cx="578628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05560" cy="614376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1211400" y="3121200"/>
            <a:ext cx="1214280" cy="301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6143760" y="3571920"/>
            <a:ext cx="12142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4572000" y="4557600"/>
            <a:ext cx="1214280" cy="28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5"/>
          <p:cNvSpPr/>
          <p:nvPr/>
        </p:nvSpPr>
        <p:spPr>
          <a:xfrm>
            <a:off x="3357720" y="5500800"/>
            <a:ext cx="121428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6"/>
          <p:cNvSpPr/>
          <p:nvPr/>
        </p:nvSpPr>
        <p:spPr>
          <a:xfrm>
            <a:off x="4357800" y="6404040"/>
            <a:ext cx="1214280" cy="288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9:4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